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2B33-E3AD-41A2-9104-67D6037075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46DD-4637-4687-B68D-BBDADF358A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01C4-1880-462C-92C6-476FF5DF4C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7414-26DA-4758-92DD-6D1F13F634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A8AD-3B5B-46C6-BB92-E1E4BC91D0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763-1675-4081-8634-169134B0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A81-66A4-4E77-8C3C-9F595E21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7AA-2144-4B2F-976F-4032E4D5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34F-AEF1-4D0B-9E6D-95A9C513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CAB-4E6D-4527-808A-C9C5B80D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794-CC51-425E-87C7-1F11A994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217-23B3-42D5-B196-10BB3EFD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F82-07BA-46D8-8818-7BB5D230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849-A66B-4834-BA1F-12C6D800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639-7FF2-4DCA-9E3D-1081E578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4F7-85A6-4655-BD88-2D9CF787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A2A-F34A-4BDE-9AA4-10100DC7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EBA-4F62-4794-B5CB-4E150FCB9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– ovo je lo</a:t>
            </a:r>
            <a:r>
              <a:rPr b="0" lang="sr-Latn-RS" sz="2400" spc="-1" strike="noStrike">
                <a:solidFill>
                  <a:srgbClr val="ff0033"/>
                </a:solidFill>
                <a:latin typeface="Times New Roman"/>
              </a:rPr>
              <a:t>še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6" name="Group 5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7" name="Rectangle 6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" name="Line 7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" name="Line 8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" name="Line 9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3" name="Line 12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4" name="Line 13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" name="Line 14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" name="Line 15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7" name="Line 16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8" name="Line 17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0" name="Line 19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1" name="Line 20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2" name="Rectangle 21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3" name="Rectangle 22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4" name="Rectangle 23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5" name="Rectangle 24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6" name="Rectangle 25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7" name="Rectangle 26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8" name="Rectangle 27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9" name="Rectangle 28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Rectangle 29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035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0" name="Rectangle 1028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Rectangle 1029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Rectangle 1030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Rectangle 1031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Rectangle 1032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Rectangle 1033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Rectangle 1034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7" name="Rectangle 1036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8" name="Group 1051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69" name="Oval 1037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Oval 1038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Line 1039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Line 1040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Line 1041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Line 1042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Line 1043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Line 1044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Rectangle 1045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Rectangle 1046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Rectangle 1047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Rectangle 1048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Rectangle 1049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Rectangle 1050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Rectangle 1027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5" name="Group 1046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6" name="Group 1042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7" name="Oval 1028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8" name="Oval 1029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9" name="Line 1030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0" name="Line 1031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1" name="Line 1032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2" name="Line 1033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3" name="Line 1034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Line 1035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5" name="Rectangle 1036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6" name="Rectangle 1037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" name="Rectangle 1038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" name="Rectangle 1039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Rectangle 1040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Rectangle 1041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1043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Rectangle 1044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Rectangle 1045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7" name="Group 18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08" name="Oval 4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Oval 5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Line 6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Line 8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Line 9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Line 11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8" name="Rectangle 14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0" name="Rectangle 16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1" name="Rectangle 17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Rectangle 19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Rectangle 20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7" name="Group 22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28" name="Group 18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29" name="Oval 4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0" name="Oval 5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1" name="Line 6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2" name="Line 7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3" name="Line 8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4" name="Line 9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5" name="Line 10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" name="Line 11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Rectangle 19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Rectangle 20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Rectangle 21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7" name="Rectangle 23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0" name="Rectangle 26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52" name="Group 47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3" name="Group 43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4" name="Oval 29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" name="Oval 30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" name="Line 31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" name="Line 32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8" name="Line 33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9" name="Line 34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0" name="Line 35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1" name="Line 36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4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Rectangle 45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Rectangle 46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1" name="Group 50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2" name="Rectangle 48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Line 49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4" name="Group 53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5" name="Rectangle 51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Line 52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8" name="Group 28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79" name="Group 21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0" name="Group 17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1" name="Oval 3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4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5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6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7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8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9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10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1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2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3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4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15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6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Rectangle 18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6" name="Rectangle 19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" name="Rectangle 20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299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0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27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2" name="Rectangle 25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3" name="Line 26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Rectangle 29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7" name="Group 28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08" name="Group 18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09" name="Oval 4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0" name="Oval 5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5" name="Line 10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Line 11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7" name="Rectangle 12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8" name="Rectangle 13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9" name="Rectangle 14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0" name="Rectangle 15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1" name="Rectangle 16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2" name="Rectangle 17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Rectangle 19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Rectangle 20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Rectangle 21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26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7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7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0" name="Rectangle 25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1" name="Line 26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Rectangle 29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5" name="Group 28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6" name="Group 21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7" name="Group 17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38" name="Oval 3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4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5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6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7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8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9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10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11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3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4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5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16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Rectangle 18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3" name="Rectangle 19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4" name="Rectangle 20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6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7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7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59" name="Rectangle 25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0" name="Line 26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Rectangle 29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SPOT-L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SPOT-R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4" name="Group 17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5" name="Oval 3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6" name="Oval 4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7" name="Line 5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8" name="Line 6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9" name="Line 7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0" name="Line 8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1" name="Line 9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2" name="Line 10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4" name="Rectangle 12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5" name="Rectangle 13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" name="Rectangle 14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7" name="Rectangle 15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Rectangle 18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2" name="Group 24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3" name="Rectangle 22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5" name="Group 27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6" name="Rectangle 25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Line 26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8" name="Rectangle 28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1" name="Group 31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2" name="Group 21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3" name="Group 17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4" name="Oval 3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4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5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6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7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8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9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10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11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12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13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14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15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16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Rectangle 18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9" name="Rectangle 19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0" name="Rectangle 20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24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2" name="Rectangle 22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3" name="Line 23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Group 27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5" name="Rectangle 25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6" name="Line 26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Rectangle 28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tangle 29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30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2" name="Group 22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3" name="Group 18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4" name="Oval 4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Oval 5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6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7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Line 8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9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10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11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2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3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4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6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7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Rectangle 19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" name="Rectangle 20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" name="Rectangle 21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5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2" name="Rectangle 23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" name="Line 24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8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5" name="Rectangle 26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" name="Line 27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0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1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2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3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4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5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6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7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8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9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0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Rectangle 20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Rectangle 21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68" name="Rectangle 23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9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0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2" name="Line 27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6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7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0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1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3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4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5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6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7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8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9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0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Rectangle 20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Rectangle 21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4" name="Rectangle 23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5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6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8" name="Line 27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2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3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8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4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5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6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Rectangle 20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Rectangle 21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0" name="Rectangle 23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1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2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4" name="Line 27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0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28" name="Group 22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29" name="Group 18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0" name="Oval 4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Oval 5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Line 6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7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8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Line 9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Line 10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Line 11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Rectangle 12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Rectangle 13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14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Rectangle 15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Rectangle 16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17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Rectangle 19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5" name="Rectangle 20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6" name="Rectangle 21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5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48" name="Rectangle 23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9" name="Line 24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8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1" name="Rectangle 26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2" name="Line 27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18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6" name="Oval 4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Oval 5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Line 6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Line 7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Line 8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Line 9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Line 10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Rectangle 14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Rectangle 15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Rectangle 16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Rectangle 17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0" name="Rectangle 19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Rectangle 20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4" name="Rectangle 22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Line 23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76" name="Group 27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7" name="Rectangle 25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Line 26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9" name="Rectangle 28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8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3" name="Oval 4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Oval 5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5" name="Line 6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" name="Line 7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" name="Line 8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" name="Line 9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" name="Line 10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" name="Rectangle 12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2" name="Rectangle 13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Rectangle 15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" name="Rectangle 17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97" name="Rectangle 19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Rectangle 21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1" name="Rectangle 22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2" name="Line 23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03" name="Rectangle 25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Rectangle 26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Rectangle 27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Line 28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Group 17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09" name="Oval 3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0" name="Oval 4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" name="Line 7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" name="Rectangle 11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8" name="Rectangle 12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Rectangle 13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Rectangle 14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6" name="Group 23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7" name="Rectangle 21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9" name="Rectangle 24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Rectangle 25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Rectangle 26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Rectangle 27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Line 28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Group 51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Text Box 50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57" name="Picture 49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Picture 54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6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7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8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59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Text Box 61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Rectangle 62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Rectangle 63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Text Box 64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Rectangle 65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Text Box 66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Rectangle 67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Picture 69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0" descr="person5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1" descr="person8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5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6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77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Picture 19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person5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92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15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04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13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person7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Kole</cp:lastModifiedBy>
  <cp:lastPrinted>2000-03-30T20:56:41Z</cp:lastPrinted>
  <dcterms:modified xsi:type="dcterms:W3CDTF">2020-04-03T11:56:58Z</dcterms:modified>
  <cp:revision>283</cp:revision>
  <dc:subject/>
  <dc:title>Data Representation Methods</dc:title>
</cp:coreProperties>
</file>